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A0F-8E98-471D-8D32-BF449A25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577-AF5E-4AE0-8F49-DE82464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45E-0E81-43D0-8BB7-2E42819D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78B-3D77-4BB0-B25F-175CF35D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615-D96F-4FA7-8BEC-98797CC5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FCD-D48F-4842-8AA2-78D20774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6EF-7C8E-49EC-AE97-08318D4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366-CC42-4D51-BD21-AA4EDAC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9B0-0B37-4631-9299-CD376071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CF8-E6ED-4C77-B575-4DE0A6B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D96-1A1C-45E2-A189-0019E8E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12B-4195-436C-92EB-C24F4E4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C559-A108-4930-AD28-A2BE9F34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1.201.117.158/catalog/addbook.php?id=281208" TargetMode="External"/><Relationship Id="rId3" Type="http://schemas.openxmlformats.org/officeDocument/2006/relationships/hyperlink" Target="http://91.201.117.158/catalog/addbook.php?id=348607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1.201.117.158/catalog/addbook.php?id=86461" TargetMode="External"/><Relationship Id="rId3" Type="http://schemas.openxmlformats.org/officeDocument/2006/relationships/hyperlink" Target="http://91.201.117.158/catalog/addbook.php?id=96428" TargetMode="External"/><Relationship Id="rId4" Type="http://schemas.openxmlformats.org/officeDocument/2006/relationships/hyperlink" Target="http://91.201.117.158/catalog/addbook.php?id=216993" TargetMode="External"/><Relationship Id="rId5" Type="http://schemas.openxmlformats.org/officeDocument/2006/relationships/hyperlink" Target="http://91.201.117.158/catalog/addbook.php?id=322915" TargetMode="External"/><Relationship Id="rId6" Type="http://schemas.openxmlformats.org/officeDocument/2006/relationships/hyperlink" Target="http://91.201.117.158/catalog/addbook.php?id=322917" TargetMode="External"/><Relationship Id="rId7" Type="http://schemas.openxmlformats.org/officeDocument/2006/relationships/hyperlink" Target="http://91.201.117.158/catalog/addbook.php?id=322916" TargetMode="Externa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1.201.117.158/catalog/addbook.php?id=355909" TargetMode="External"/><Relationship Id="rId3" Type="http://schemas.openxmlformats.org/officeDocument/2006/relationships/hyperlink" Target="http://91.201.117.158/catalog/addbook.php?id=88894" TargetMode="External"/><Relationship Id="rId4" Type="http://schemas.openxmlformats.org/officeDocument/2006/relationships/hyperlink" Target="http://91.201.117.158/catalog/addbook.php?id=104057" TargetMode="External"/><Relationship Id="rId5" Type="http://schemas.openxmlformats.org/officeDocument/2006/relationships/hyperlink" Target="http://91.201.117.158/catalog/addbook.php?id=94553" TargetMode="External"/><Relationship Id="rId6" Type="http://schemas.openxmlformats.org/officeDocument/2006/relationships/hyperlink" Target="http://91.201.117.158/catalog/addbook.php?id=377268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tnarkoticov.ru/narkomaniya-sredi-molodezhi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29528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mbria"/>
              </a:rPr>
              <a:t>"Нарком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mbria"/>
              <a:ea typeface="Cambr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124080"/>
            <a:ext cx="6248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 Antiqua"/>
              </a:rPr>
              <a:t>стучится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4267080"/>
            <a:ext cx="8001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 Antiqua"/>
              </a:rPr>
              <a:t>каждый до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5638680"/>
            <a:ext cx="6248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mbria"/>
              </a:rPr>
              <a:t>обзор литерату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mbria"/>
              <a:ea typeface="Cambria"/>
            </a:endParaRPr>
          </a:p>
        </p:txBody>
      </p:sp>
      <p:pic>
        <p:nvPicPr>
          <p:cNvPr id="45" name="445099" descr=""/>
          <p:cNvPicPr/>
          <p:nvPr/>
        </p:nvPicPr>
        <p:blipFill>
          <a:blip r:embed="rId2"/>
          <a:srcRect l="0" t="0" r="6659" b="3491"/>
          <a:stretch/>
        </p:blipFill>
        <p:spPr>
          <a:xfrm>
            <a:off x="5486400" y="30492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5880" y="304920"/>
            <a:ext cx="2743200" cy="3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МБУК "Островская центральна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районная библиотека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9920" y="533520"/>
            <a:ext cx="312408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5638680" y="0"/>
            <a:ext cx="350532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6200" y="2668680"/>
            <a:ext cx="4952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оскаленко, В. Д. Зависимость: семейная болезнь: в семье зависимость от алкоголя и наркотиков. Как выжить тем, кто рядом? / Москаленко Валентина Дмитриевна; Валентина Москаленко. -6-е изд., стер.. -Москва: PerSe , 2011. -351 с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43484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нига известного специалиста, доктора медицинских наук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лентины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митриевны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оскаленко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является наиболее полным и систематическим изложением концепции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зависимост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при нарколог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84480"/>
            <a:ext cx="891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овременная наука выделяет такое понятие, как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озависимость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озависимость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— искажение отношений близких людей, вызванное зависимостью одного из них от алкоголя или наркотиков.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озависимый человек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теряет свою собственную жизнь и начинает жить жизнью зависимого близкого, пытаясь защитить его от употребления: безуспешно пытается контролировать близкого, становится жертвой его поведения, испытывает много горя и разрушает свою жизнь, тем самым помогая зависимости близкого беспрепятственно развиваться.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озависимый человек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нуждается в выздоровлении не меньше самого алкоголика или нарко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24987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22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роблеме созависимости</a:t>
            </a:r>
            <a:r>
              <a:rPr b="1" lang="ru-RU" sz="1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 семьях наркоманов посвящена книга известного психолога С.Б. Ваис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5865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аисов, С. Б.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Наркотическая и алкогольная зависимость:практическое руководство по реабилитации детей и подростков / Ваисов Санжар Бахтярович; С. Б. Ваисов. -Санкт-Петербург: Наука и техника (НиТ) , 2008. -268 с. -(Мир психологии и психотерап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459960"/>
            <a:ext cx="54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В ней особое внимание уделено работе с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семьями больных наркоманией и алкоголизмо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 Подробно рассмотрена программа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«12 плюс»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 одна из немногих, использующая комплексный подход. Вниманию всех родителей предложен тренинг родительской компетентности, который поможет правильно взаимодействовать со своим ребёнком, обозначит проблемы, связанные с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вредными привы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286236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282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Почему люди, зная, как надо поступать правильно, себе во благо, тем не менее, поступают во вред, причем добровольно, свободно делая свой выбор? Какие факторы этот самый выбор обуславливают? На эти и многие другие вопросы ответит кни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011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амый легкий способ избавиться от вредных привычек. Курение, алкоголизм./[авт. -сост. Вера Надеждина]. -Минск: Харвест , 2008. -22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382572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втор уверена, что если выявить механизмы возникновения и развития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висимого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можно будет избежать зависимости или  помочь справиться с пагубными привычками.  Книга расскажет о наиболе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эффективных способах избавления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от наркомании, алкоголизма, игромании, табакоку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857320" cy="4495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-118080"/>
            <a:ext cx="8305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егодняшнее время требует нового понимания опасности наркомании и нового подхода к профилактической работе. Большая роль в профилактике зависимостей (наркомания, алкоголизм, табакокурение, игромания) отводиться учебным заведениям.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Школ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представляет собой уникальную и весьма важную «площадку» для принятия мер по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профилактик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наркомании. Однако,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авно стало понятно, что разовые, устрашающие акции пользы не приносят. Нужна систематическая, грамотно организованная, опирающаяся на современные методики профилактическая работа. Этой проблеме посвящены следующие книг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2096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ожков, М. 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офилактика наркомании у подростков: учеб.-метод. пособие / Рожков Михаил Иосифович , Ковальчук Марина Александровна. -М.: Владос , 2004. -144 с. -(Психология для все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3845880"/>
            <a:ext cx="5943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Авторы рассказывают об опыте работы на основе методики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социально-ориентирующей имитации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в условиях оздоровительного лагеря. Была использована концепция социального закаливания, предполагающая «включение» детей в ситуации, требующие преодоления негативного внешнего воз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В издании предложены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сценарии игр, тренингов, тематических занятий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, позволяющие научить ребенка преодолевать соблазны, быть самостоятельным в своем выборе, сопротивляться негативному воздейств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62080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910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Разработать тематические классные часы, родительские собрания, викторины, конкурсы, тесты, анкеты, посвященные вредным привычкам помогут книги Г.Г. Кулинич дифференцированные по различным возрастам аудитории: 1-4, 5-7, 8-11 клас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680480"/>
            <a:ext cx="6782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нич, Г.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: профилактика зависимостей:1-4 классы / Кулинич Галина Григорьевна; Г. Г. Кулинич. -Москва: ВАКО , 2009. -22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нич, Г.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: профилактика зависимостей:5-7 классы / Кулинич Галина Григорьевна; Г. Г. Кулинич. -Москва: ВАКО , 2009. -207 c. -(Педагогика. Психология. Управл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нич, Г.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привычки: профилактика зависимостей: 8-11 классы / Кулинич Галина Григорьевна; Г. Г. Кулинич. -Москва: ВАКО , 2009. -272 с. -(Педагогика. Психология. Управл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1-4%20vv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20720" cy="256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590840" cy="252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81720" y="4114800"/>
            <a:ext cx="1638360" cy="261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13760"/>
            <a:ext cx="7848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дагогическое общество России выпустило в свет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учебное пособие для ученика, учителя и родителя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состоящее из четырех книг. Авторами пособия являются Маюров А.Н., президент Международной Академии Трезвости и Маюров Я.А., президент Молодежной антинаркотической федерации России. Серия из четырех книг содержит разработки различных вариантов уроков «Культуры здоровья» в 7 – 11 классах. Первый том посвящен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общеоздоровительным и здравосозидательным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вопросам. Второй – вопросам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никотиновой зависимости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и связанным с этим проблемам. Том третий повествует об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алкогольной трагедии и выходе из пьяного круг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 В четвертом томе раскрываются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технологии преодоления наркотической зависимости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и формирования трезвог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особия можно использовать в процессе учебной деятельности, а также во внеклассной работе, для проведения классных часов, факультативных занятий, родительских собраний, летнего оздоровительного отды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041360"/>
            <a:ext cx="533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аюров Александр Николаевич</a:t>
            </a:r>
            <a:br>
              <a:rPr sz="1600"/>
            </a:b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Наркотики, выход из наркотического круга:учеб. пособие для ученика и учителя, 7-11 кл / Маюров Александр Николаевич , Маюров Яков Александрович. -М.: Педагогическое общество России , 2004. -192 с -(Уроки культуры здоровья, Кн. 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65080" y="3809880"/>
            <a:ext cx="1960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0420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СОК ЛИТЕРАТУРЫ ПО ПРОФИЛАКТИКЕ НАРКОЗАВИСИМОСТИ И БОРЬБЕ С НАРКОМА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1480"/>
            <a:ext cx="84582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Байкова, В. Г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Наркомания в России: состояние, тенденции, пути преодоления:Пособие для педагогов и родителей / Байкова В. Г. , Брюн Е. А.; Под общ. ред. А. Н. Гаранского. -М.: ВЛАДОС-Пресс , 2003. -352 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Баймухаметов, С. Т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Сны золотые: исповеди наркоманов / Баймухаметов Сергей Темирбулатович; Ред. О. Г. Свердлова. -М.: ЗНАНИЕ , 1998. -191 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Березин, С. В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Наркомания глазами семейного психолога:учеб. пособие для вузов : для студентов, обучающихся по направлению и спец. психологии / Березин Сергей Викторович , Лисецкий Константин Сергеевич. -Санкт-Петербург: Речь , 2005. -238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Братилова, Т. И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В семье наркозависимый. Что делать? / Братилова Татьяна Ивановна , Починюк Олег Петрович. -Ростов-на-Дону: Феникс, 2005. -220, [1] с. -(Серия "Без проблем"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Ваисов, С. Б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Наркотическая и алкогольная зависимость:практическое руководство по реабилитации детей и подростков / Ваисов Санжар Бахтярович; С. Б. Ваисов. -Санкт-Петербург: Наука и техника (НиТ) , 2008. -268 с. -(Мир психологии и психотерапии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Вайнер, Э. Н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филактика вредных привычек у подростков / Вайнер Эдуард Наумович; Эдуард Вайнер. -Москва: Чистые пруды , 2010. -30 с. -(Библиотечка "Первого сентября": Серия "Здоровье детей"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Дацюк, В. П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Особенности противостояния незаконному обороту наркотиков в Псковской области: науч.-практ. пособие / Дацюк Владимир Петрович , Мешков Владимир Михайлович; Калинингр. юрид. ин-т МВД РФ; УВД Пск. обл. -Калининград: [б. и.] , 2000. -52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Жук, О. А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"Тихие обольстители" или "необузданные демоны". Наркотики: история, общество, культура / Жук Ольга Александровна; Санкт-Петербург: Красный матрос , 2007. -184 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75240"/>
            <a:ext cx="899172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9. Иванова, Н. А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Наркотики: выход есть! / Иванова Новелла Александровна , Бирун Наталья Евгеньевна. -СПб.: Питер , 2001. -219 с. -(Исцели себя сам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Колбанов, В.В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Профилактика наркозависимости в школе / Колбанов В.В.; Комитет по образованию Санкт-Петербурга, Санкт-Петербург. акад. постдиплом. пед. образования, Каф. валеологии. -СПб.: Санкт-Петербургская академия постдипломного педагогического образования , 2003. -105 с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1. Колесов, Д. В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Антинаркотическое воспитание:учебное пособие, учебно-методическое пособие / Колесов Дмитрий Васильевич; Д. В. Колесов. -5-е изд. -Москва: МПСИ ; , 2009. -222 с. -(Библиотека педагога-практик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2. Кольцова, О. В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сихология работы с наркозависимыми / Кольцова Ольга Владимировна. -Санкт-Петербург: Речь , 2007. -159 с. -(Психологический практикум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4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3. Коробкина, З. В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филактика наркотической зависимости у детей и молодежи:учебное пособие для студентов вузов, обучающихся по педагогическим специальностям / Коробкина Зоя Васильевна , Попова Виктор Алексеевич. -Москва: Academia , 2002. -187 с. -(Высшее образовани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4. Кулинич, Г. Г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Вредные привычки: профилактика зависимостей:1-4 классы : [классные часы, родительские собрания, викторины, конкурсы, тесты, анкеты, советы психолога и врача] / Кулинич Галина Григорьевна; Г. Г. Кулинич. -Москва: ВАКО , 2009. -224 с. -(Педагогика. Психология. Управление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5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5. Кулинич, Г. Г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Вредные привычки: профилактика зависимостей:5-7 классы : [классные часы, родительские собрания, тесты, анкеты, советы психолога, рекомендации врача] / Кулинич Галина Григорьевна. -Москва: ВАКО , 2009. -207 c. -(Педагогика. Психология. Управление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6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6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Кулинич, Г. Г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Вредные привычки: профилактика зависимостей:8-11 классы : [классные часы, родительские собрания, викторины, конкурсы, тесты, анкеты, советы психолога и врача] / Кулинич Галина Григорьевна. -Москва: ВАКО , 2009. -272 с. -(Педагогика. Психология. Управление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6360"/>
            <a:ext cx="83055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7. Лозовой, В. В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Профилактика зависимостей: опыт создания системы первичной профилактики / Лозовой В. В. , Кремлева О. В.; В. В. Лозовой. -Москва: АльянсПринт , 2011. -448 с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8. Майтова, В. М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Исповедь бывшего наркомана: Как защитить детей от наркотиков: Эссе, размышления, проект, опыт профилакт. работы / Майтова Вера Михайловна , Майтова Ольга Викторовна. -М.: Советский спорт , 2000. -448 с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19. Маюров, А. Н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Наркотики, выход из наркотического круга: учеб. пособие для ученика и учителя, 7-11 кл / Маюров Александр Николаевич , Маюров Яков Александрович. -М.: Педагогическое общество России , 2004. -192 с -(Уроки культуры здоровья, Кн. 4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4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0. Миронов, Е.М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щайте, наркотики! / Миронов Евгений Михайлович. -СПб.: Питер , 2001. -192 с. -(Исцели себя сам)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5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1. Москаленко, В. Д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Зависимость: семейная болезнь:в семье зависимость от алкоголя и наркотиков. Как выжить тем, кто рядом? / Москаленко Валентина Дмитриевна. -6-е изд., стер.. -Москва: PerSe , 2011. -351 с.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Book Antiqua"/>
                <a:hlinkClick r:id="rId6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2. Отвагина, Т. В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Стоп! Наркотик / Отвагина Татьяна Владимировна. -Ростов-на-Дону: Феникс , 2005. -246 с. -(Будь здоров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3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Профилактика наркомании в школе / В. Родионов и др.  -Москва: Чистые пруды , 2005. -29 с. -(Библиотечка "Первого сентября": Серия "Здоровье детей"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4. Прусс, М. С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Как избавиться от наркотической зависимости: Скажи наркотику "прощай" / Прусс Михаил Самуилович , Кельин Леонид Леонидович. -СПб. ; М.: Нева ; ОЛМА-ПРЕСС , 2002. -159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 rot="1189800">
            <a:off x="6857640" y="510516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rot="21275400">
            <a:off x="5028840" y="4952880"/>
            <a:ext cx="971640" cy="155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img2.labirint.ru/books/68640/big.jpg"/>
          <p:cNvPicPr/>
          <p:nvPr/>
        </p:nvPicPr>
        <p:blipFill>
          <a:blip r:embed="rId9"/>
          <a:stretch/>
        </p:blipFill>
        <p:spPr>
          <a:xfrm rot="20478000">
            <a:off x="3374640" y="4984560"/>
            <a:ext cx="108576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5943600"/>
            <a:ext cx="7467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960"/>
            <a:ext cx="8610840" cy="62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5. Рожков, М. И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филактика наркомании у подростков: учеб.-метод. пособие / Рожков Михаил Иосифович , Ковальчук Марина Александровна. -М.: Владос , 2004. -144 с. -(Психология для всех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6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Самый легкий способ избавиться от вредных привычек. Курение, алкоголизм./авт. -сост. Вера Надеждина. -Минск: Харвест , 2008. -223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7. Свищева, Т. Я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Наркомания стучится в каждый дом. Профилактика и лечение:как избавиться от пагубных привычек / Свищева Тамара Яковлевна. -М.-СПб.: Диля , 2007. -413 с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8. Сирота, Н. А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филактика наркомании и алкоголизма:учебное пособие для студентов высших учебных заведений, обучающихся по направлению и специальностям психологии / Сирота Наталья Александровна , Ялтонский Владимир Михайлович. -3-е изд., стер.. -Москва: Академия , 2008. -174 с. -(Высшее профессиональное образование: Психологи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29. Сташкова, Т. Н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Выбор за тобой: психолого-педагогическая программа "Как здорово быть здоровым!" по профилактике наркозависимости для старших дошкольников / Сташкова Татьяна Николаевна; Татьяна Сташкова. -Москва: Чистые пруды , 2010. -32 с. -(Библиотечка "Первого сентября": Серия "Здоровье детей" / общ. ред.: Н. В. Семин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30.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 Удар по "кайфу":информ.-метод. и сцен. материалы, посвящ. профилактике СПИДа и наркомании : организаторам досуга./. -М.: Псковский областной центр народного творчества , 2004. -79 с. -(Капкан)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31. Фалковски, К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Опасные наркотики / Фалковски Кэрол; Кэрол Фалковски. -Москва: Институт общегуманитарных исследований , 2002. -232 с. -(Современная психология: теория и практика, Вып. 1: Лечение зависимостей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Book Antiqua"/>
              </a:rPr>
              <a:t>32. Хажилина, И. И. </a:t>
            </a:r>
            <a:r>
              <a:rPr b="0" lang="ru-RU" sz="1500" spc="-1" strike="noStrike">
                <a:solidFill>
                  <a:srgbClr val="000000"/>
                </a:solidFill>
                <a:latin typeface="Book Antiqua"/>
              </a:rPr>
              <a:t>Профилактика наркомании: модели, тренинги, сценарии / Хажилина Ирина Ивановна; И. И. Хажилина. -Москва: Изд-во Института психотерапии , 2002. -226 с. -(Советы психолог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6019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редставленными книгами можно ознакомиться в Островской центральной районной библиотек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5228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В начале своего "наркотического пути" каждый думает, что он-то никогда не станет рабом наркотиков, он не допустит этого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Так думали все:  кого уже нет в живых, кто сейчас мучается в ломках и готов пойти на всё ради очередной дозы. Так думают и те, кто сегодня только первый раз попробовал нарко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http://img.66.ru/photo/0/5/29/4ffab1259fdd4.jpg"/>
          <p:cNvPicPr/>
          <p:nvPr/>
        </p:nvPicPr>
        <p:blipFill>
          <a:blip r:embed="rId2"/>
          <a:srcRect l="0" t="0" r="0" b="6329"/>
          <a:stretch/>
        </p:blipFill>
        <p:spPr>
          <a:xfrm>
            <a:off x="1371600" y="1981080"/>
            <a:ext cx="65530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80160"/>
            <a:ext cx="740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Авторы –составители: Черкашина Е.А., Алексеева О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Автор фотографий современного Острова: Алексеева О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981080"/>
            <a:ext cx="8305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Rubius"/>
              </a:rPr>
              <a:t>Благодарим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Rubius"/>
              <a:ea typeface="Rubiu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441972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Rubius"/>
              </a:rPr>
              <a:t>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Rubius"/>
              <a:ea typeface="Rubius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227160"/>
            <a:ext cx="746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Широкое распространение наркомании в обществе, его различных социальных и возрастных слоях, наглядно показывает, что от наркотиков сейчас не застрахован никто. Раньше говорили "от тюрьмы и от сумы не зарекайся", сейчас надо добавить и "от наркотиков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&amp;kcy;&amp;acy;&amp;jcy;&amp;fcy;, &amp;ncy;&amp;acy;&amp;rcy;&amp;kcy;&amp;ocy;&amp;tcy;&amp;icy;&amp;kcy;&amp;icy;"/>
          <p:cNvPicPr/>
          <p:nvPr/>
        </p:nvPicPr>
        <p:blipFill>
          <a:blip r:embed="rId2"/>
          <a:stretch/>
        </p:blipFill>
        <p:spPr>
          <a:xfrm>
            <a:off x="685800" y="24382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http://www.libvrn.ru/OZ/Graphic/health/03_5.jpg"/>
          <p:cNvPicPr/>
          <p:nvPr/>
        </p:nvPicPr>
        <p:blipFill>
          <a:blip r:embed="rId3"/>
          <a:stretch/>
        </p:blipFill>
        <p:spPr>
          <a:xfrm>
            <a:off x="3733920" y="297180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-2160"/>
            <a:ext cx="77724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ambria"/>
              </a:rPr>
              <a:t>Лечение наркомании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очень сложный и длительный процесс часто не дающий положительных результатов, поэтому </a:t>
            </a:r>
            <a:r>
              <a:rPr b="1" lang="en-US" sz="2000" spc="-1" strike="noStrike">
                <a:solidFill>
                  <a:srgbClr val="009999"/>
                </a:solidFill>
                <a:latin typeface="Cambria"/>
              </a:rPr>
              <a:t>профилактика наркомании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– один из важнейших направлений деятельности всех социальных институтов. Еще недавно эта работа базировалась на запретах и наказаниях. И эти методы и вся работа по профилактике наркомании часто оказывались неэффективными, так как не учитывали социально-психологических и возрастных особенностей подростков. И это не смотря на то, что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наркомания среди молодеж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 является наиболее опасной для здоров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Сегодня применяются подходы, не связанные с запугиванием, нацеленные на формирование таких установок, при которых наркотики не являются ценностями.  Хорошая </a:t>
            </a:r>
            <a:r>
              <a:rPr b="1" lang="en-US" sz="2000" spc="-1" strike="noStrike">
                <a:solidFill>
                  <a:srgbClr val="009999"/>
                </a:solidFill>
                <a:latin typeface="Cambria"/>
              </a:rPr>
              <a:t>профилактическая работа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среди подростков дает ощутимые результаты, и она должна вестись постоянно и в широких масштабах. Правильно проведенные профилактические мероприятия среди подростков обязательно станут сдерживающим фактором и уменьшат количество молодых людей, употребляющих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226440"/>
            <a:ext cx="76197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длагаемые в данном обзоре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ниг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помогут разобраться в том, как правильно, результативно и какими методами вести профилактическую работу среди молодежи,. Конечно, эти книги не содержат чудесных методов борьбы с вредными привычками.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о!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Они настраивают на борьбу с наркозависимостью, будь то героин, алкоголь или никотин. Предлагают разнообразный выбор методик, подходов, тренин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отраженная в этих изданиях может быть полезна как педагогам, родителям – всем тем, кто проводит профилактическую работу или борется с уже имеющейся зависимостью близких, так и молодежной ауд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собую группу среди литературы по данной проблеме составляют книги, соавторами, которых являются сами наркозависимые, те кто прошел путь от первой до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ркотика до безнадежного существования нарк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57600" y="304920"/>
            <a:ext cx="527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аймухаметов, С.Т.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ны золотые: исповеди наркоманов / Баймухаметов Сергей Темирбулатович; Ред. О. Г. Свердлова. -М.: Знание, 1998. -191с. -(Педагогический факульт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716840"/>
            <a:ext cx="6095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Данная книга стала в России бестселлером. Эта книга - для детей и родителей, по ней читаются лекции аспирантам-психологам. Она может стать самой действенной прививкой от соблазна наркомании. Потому, что книга рассказывает правду.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Страшную правду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. Чтобы знали, что такое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мир наркомана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. Причем, именно в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исповедях, от первого лица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. С полной, предельной откровенностью. Чтобы каждый отец мог дать эту книгу своему сыну и сказать: "Знай, вот что с тобой будет..." Да, читать это тяжело, это изнанка самой жуткой жизни. Но только, правда, пусть и жестокая, способна повлиять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умы и сердца подрос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Однако, было бы неправильно, да и вредно описывая все ужасы наркомании, показывать безысходность положения. Можно и нужно искать способы борьбы с наркоманией, как применительно к обществу в целом, так и к конкретному челов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Каждая из семей, сталкиваясь с наркоманией идет своим путем в одиночестве, совершая одни и те же ошиб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467080" cy="388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62520" y="457200"/>
            <a:ext cx="502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щева, Т. Я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Наркомания стучится в каждый дом. Профилактика и лечение:[как избавиться от пагубных привычек] / Свищева Тамара Яковлевна. -М.-СПб.: Диля, 2007. -413, [1]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720"/>
            <a:ext cx="4191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Издание содержит общую теоретическую информацию о наркотиках и наркомании, но это не главное.  Важно, что здесь представлен достаточно разнообразный выбор лечебно-оздоровительных методов и средств, которые помогут осознать, что избавиться от пагубных привычек не только нужно, но и 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655720" cy="434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952880" y="2746080"/>
            <a:ext cx="3505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усс М. С. Как избавиться от наркотической зависимости: Скажи наркотику "прощай" / Прусс Михаил Самуилович, Кельин Леонид Леонидович. -СПб. ; М.: Нева ; ОЛМА-ПРЕСС , 2002. -159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3448080"/>
            <a:ext cx="4114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22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Наркомания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это тяжелый хронический недуг, от которого страдает вся семья. Наркоман способен психически, физически и социально воздействовать на членов семьи, разрушая семейный союз. От того, как относятся члены семьи к данной проблеме, будет зависеть  судьба самого наркомана и его близ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оэтому сегодня много книг по проблемам наркозависимости адресуется именно родственникам и близким наркоманов. Эти издания помогают справиться с бедой, не пропустить первые признаки употребления наркотиков, предлагают варианты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955400"/>
            <a:ext cx="632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книге опытные врачи-наркологи рассматривают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ркозависимость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как личностное расстройство, которое возникает и формируется под воздействием целого ряда факторов (генетических, психологических, социально-экономических и других). Подробно рассмотрена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ограмма «12 шаг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44476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677240"/>
            <a:ext cx="5257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ратилова, Т. И. В семье наркозависим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то делать? / Братилова Татьяна Иван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чинюк Олег Петрович. -Ростов-на-До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Феникс, 2005. -220, [1] с. -(Серия "Без проблем"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902680"/>
            <a:ext cx="5257800" cy="3775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Книга дает конкретные рекомендации семьям, что нужно предпринять в интересах больных и в интересах членов семей по профилактике, лечению и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реабилитации нарко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Автор предлагает программу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профилактики наркомании,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начиная не с подросткового возраста, как обычно, а с 4-5 лет. Действительно, с раннего возраста важно воспитывать в ребенке привычку доверять родителям, делиться проблемами и неудачами, так же, как и достижениями.  Дети должны понимать, что есть полезные и вредные вещества. Собственно о наркотиках можно говорить не ранее, чем с 9 лет.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Очень осторожно!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Так, чтобы запреты не стали реклам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80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Говорят, что когда в семью пришел наркотик – уже поздно.  Тем не менее, родители, родственники, друзья и коллеги наркозависимого могут во многом изменять ситуац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286380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2-04T12:53:5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